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6EC6-91F9-4C77-ABAB-50429F0A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E174-F02E-45F8-9111-3A9A6520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BDCAB-DCBD-45B2-83D2-26D8D816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B912B-F2AF-4BDA-88FD-62FA89F4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DADFB-7D78-47E0-8445-E66EA10E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2A9EF-E794-4170-A4A7-BF937016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0B85C-2123-4066-9035-6E2DBB12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B932A-F675-445D-9FCF-BCFB0C4D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98508-014A-41A3-B2E2-D212DAA6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A4689-2B38-4AF6-9DA2-CA90D826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6CA0C-3207-48DE-BD58-AC0F7B4E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559E5-AB67-4711-81D5-78637DBB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730-5A59-4366-86F0-FF38CECB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EA19A-F748-44CB-A4EC-43CF7F6C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7727E-C15C-489C-845D-9F2B10D3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46745-291C-4548-9993-401C289A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30D86-16CB-4C89-AB62-B9868E6C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FB6D5-0A77-4DCD-A423-38ADBA86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8D6F2-DAE9-4EA5-96AE-E7442857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EB7AA-33DF-40B9-92F7-86F37AD7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70BA5-7558-46CE-849D-18054C40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CCCAB-F5E7-48A3-9133-9C8B5998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2B2BA-89E7-487A-BCCC-ADD04970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117-67E3-424E-AAB7-20B28DC9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C6F88-72B7-420D-99B4-ACE1A40F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0866B-7B72-47D1-A519-CD621495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8CEDF-BB7F-4343-A657-466F0F40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5D2FC-09EE-4B00-B9CD-7A259231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BFCA8-2ECE-4D97-99D9-7B2C074F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075D5-AAB4-4CEC-B5EE-642FC505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A04E5-978F-4239-A7E9-9F89F99C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0234F-1070-4304-85D3-5C899442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85457-884C-4D4A-B5BB-34E7796F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B6AC4-E3A9-47FA-B9D0-7008E3C6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61F0-77D2-48FC-9A81-4F18424D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EB28B-A6BC-402D-A97D-C449C99D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E250A-08F1-4683-86DD-0E55924F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EFE1D-20D5-43D6-88BC-9812A1E8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96D71-2839-4663-9E4A-CDF128B8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7F330-F49B-4976-B0C6-D2B5E728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703AD-D90C-4972-B60D-56E4CCA3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D0477-AD1C-4AB5-9D39-5635685D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3F7F2-6E55-4BF9-8037-3BA6CB45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54C7C-071B-4BA4-8C82-AF2CE17D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A8B27-6C72-46AE-9186-88960C9C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192E-55B0-49D6-8C48-9D83C124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7C74E-84FD-412E-B106-614A954B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8D553-7059-4ABB-A08A-A1B7EC2D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6C9B8-E3DF-4224-9B94-FB6D25BC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350D0-AAD2-4AC7-BC85-0499844F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47B3D-E085-4BE5-9AF4-EF32B82C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EF96-0A97-4C1A-95A4-1A9FA07E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5279-3C06-4BFD-AB99-37123180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DFDA-378A-472C-A364-A2646CCB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DB61-0AD6-4933-B5C4-6AE6FEDA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B3AD-3BB9-461E-99A1-B60566B6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8BC-573F-40B1-9930-73557B84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F248-5FAA-4B57-849A-0C78728C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57BD-88D2-44ED-A609-5AA3C33D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483E-059E-45FD-97D0-4F94466B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B25D-592F-4C40-AD10-4C70B07C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9236-4EA6-4FC4-9941-4B871AD9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01399-16FF-442E-A544-CA3144C0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BBDEF-5328-4AAD-BC88-61C9D0DD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ED28A-7F95-4BC2-86A3-2BE85683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2153F-AF26-4175-863F-BA562BA9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61A14-ECBD-4BD0-B12E-C9278F6B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4E3-997D-4552-BFDE-C2A3F088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50F74-C67D-4768-AA5D-36093837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87C61-98B8-4F4A-AAD9-A7B3FDF1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760D-4BC5-4521-BCF7-FEB95CBF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C9E2A-6AE6-4415-AED5-1E5EB34C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CEBEC-3251-4134-8605-C69C0CB0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E42FB-81D6-4D74-A5CB-A297AC9B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492C8-A485-4FA8-AE6F-7AFD95D5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DFFCE-0E05-415E-8131-BD97FE02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832BD-4E6B-47F2-A1D9-B028E2C5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3D5EA-58C8-4E5B-A07E-7100AE3A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AFD6-62D3-45A6-A9FD-0382EEFF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4C52E-3BEF-45AF-A5FE-82D5E67A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9F264-F3F8-4119-8985-1409C13A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A6205-8744-4E98-B4F3-A7DEA59D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94BB3-9756-4B26-BFB6-DFDC0FB5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361E2-6A57-4A19-9925-DED14B9F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30AD0-0766-4B80-808C-CAFC98D5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10D0C-1E30-477A-8F1F-ECB1EF8B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FBF0E-1DFC-482B-93AC-FD621D24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F1EAA-3C0A-4654-B657-CFA9C1E5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D790F-6991-4BBC-9133-A9C38AEF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1C34-B664-4BCB-A8A5-10D6D83D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C299E-3A82-4AE0-A676-98AD6185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7B130-5F58-447E-BDEC-FBC5C47F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B37FE-B730-4E63-8218-755ECE5D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6D0F5-A8F3-4D00-B092-FFD131C8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3B6DC-FA2C-42AD-962F-A0870600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C914C-594D-42CC-9865-AD04B1E7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67779-E83D-4D4C-8183-C8ED1DF0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4FF2F-B1B4-4CF8-B789-8615C683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32751-7033-4DE5-BA20-F5075EF2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42314-17BA-4172-B7A9-CB458D1F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AE7B-1A42-4397-A591-79C1C7B2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659D7-7480-4858-B595-DC8748F9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3B977-120E-4389-86A9-127224DD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44320-6C37-42B7-AD69-C74FB15F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9161D-FA10-406E-AC21-F6933FD8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73C26-7483-40AF-9C77-C7B2E183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9B5A8-F191-48FC-86D1-48E19527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966B8-7C0F-4F88-AB9E-6A3B4251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09332-6C0F-49E9-98FC-828889D3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210CE-EA34-4C88-85CA-5C5395B8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94C20-8B04-4947-9344-6782952C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3FA-1F4A-44A0-BC27-19B023A2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3BDD9-E5CE-4C2F-9E9D-3210D175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6F267-7CD5-40F7-80D8-D63DD4C1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06CBB-50C4-489D-AC20-881F8FB9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D3788-2920-4CE6-9809-669F2E60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C8FDC-CB13-45CC-8A37-558B529A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3535C-A525-4599-AA10-17C0110C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606C5-40FA-4F90-A155-94187737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BC104-D7AF-43AD-B3C9-B628D651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39A8B-EB95-449E-968B-880CBADE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237F5-7006-4624-853E-4751B522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207-0DEE-45B8-86D6-4902B993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AB946-2D44-4510-B9B7-F52AFA22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C33F9-C70C-4688-B8DF-DF573955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01FA7-E000-4A22-9B03-CCD64B37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07B01-695B-484C-8AC2-BF73B0CF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3442C-C0A2-4B27-BC93-E83A975C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D96EF-C26C-47A1-BF0A-7065AD48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C808F-D4A0-4F63-8EBB-D1C0FCC4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6D2DF-93C1-44AA-980B-A2266F74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7628C-505B-47E1-A7D0-EBB6105A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A80EB-A985-44D3-9722-A1B1BC38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3BE-2877-4F59-9A40-22960116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2C14B-BAF9-47B0-9435-AA4E216F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770DC-0CE1-44C2-985C-324CB5FC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C0D30-EBFD-4066-A37F-9DF3291D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1346E-CF35-4255-90CB-81A0F551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B5C69-EFCD-4FDC-98BD-EB844C71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C1A33-3D8A-474C-BD31-716EA150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16BA6-0D8A-430F-BD58-6F92C57C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A61DB-7DE1-4905-A7DF-11355DCA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0C1EC-38DD-4ACD-AC3E-7D3B530B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3A713-4655-4CE4-B1F2-89CF863D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5A2A-88A9-4B7C-A3F9-56C035E84EA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DECD-120F-4D4D-A703-E302E3BE9A1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AD51-6211-44C0-A5EA-BA8A6DDBA02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816B-DEBA-41CA-9C58-D5A36F2EBE1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CAEF-D106-4DC5-8E0A-48D9A25D90D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FEE6-64B8-48F2-A3C3-29D723F0162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4F92-C56D-4C98-AFCF-5C21FF64C2E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FF83-5523-4570-A51C-947B120D4E3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1ED0-EA05-4CAB-915D-575FAC93F30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F348-262A-4991-BD43-4017978BA4B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1B29-F6FE-4CE9-8C22-13746A14C8A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1B2C-78C1-4B57-BF39-B8775A30A1E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28 Pán Ježiš z lásky ku m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z lásky ku m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človekom sa stal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mrel za moje hriechy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spásu mi daroval.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v svoju vzácnu vyli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ňal zo mňa ťarchu ví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rdca pokoj d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chcem chodiť stále s ním.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v každej núdzi pri m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, Priateľ najlepš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v srdci bolesť cíti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pomôže, poteší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vie, že túži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ť čistým život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íťaziť v boji s hriech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silu mi dá len on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váliť chcem svojho Pán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lebiť v každý ča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radostne ho vít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||:keď na zem príde zas.:||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8:58:43Z</dcterms:modified>
  <cp:revision>22</cp:revision>
  <dc:subject/>
  <dc:title>Je veľký náš Pán, on slávy je Kráľ Nech do všetkých strán  spev vrúcnych znie chvál.</dc:title>
</cp:coreProperties>
</file>